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C55-B581-4CE8-ADB6-26C673B1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E57-1641-4B6A-A3F8-549E014C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242-D0B3-4C9F-BCB2-8EDBA33C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3E9-1ADF-4C0E-B23D-6E7E02DD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013E-06C8-4631-8898-990F4242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F319-9B6D-4981-9BB6-12074BAC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E144-F6E6-4300-8CF1-3AA82224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7FF2-EC9E-44AE-A1C7-BF9EFC60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6D50-3991-4F52-B338-D9EC1659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DEDB-BA91-4451-B9BF-693BF6BD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5078-AFFF-4E77-B5E3-CECA1C48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EC9-FB28-4384-9489-5C696F52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35AA-B983-4D8C-8EDC-BF27892C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65EB-53E8-4995-A116-A80F456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C823-DEA9-4E60-A7E0-D76928E0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B2DA-9860-4906-9C64-DD53A943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8B75-F989-478E-9795-37E3996B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445-3A7E-4BCC-B227-098C2FCC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7DD-E28B-4B31-9792-3373D64C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1D0E-019E-45C5-B042-15F9B03B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0B8-44ED-48C9-BB7E-2354048B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CB9-179D-4B85-A29D-39A014D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BF6-64DE-40C3-9FEF-B7BB2AC5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FB8-9F87-4F22-83B8-F267D9AC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C5F8-3AB7-421E-BB69-D684D13F0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815A-98A1-4757-8513-3ED2F0FA5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Much Money</a:t>
            </a:r>
            <a:br>
              <a:rPr sz="44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Grades 3 and 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ins and a banker to let students decide what they want to know about vocabular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Much Money</a:t>
            </a:r>
            <a:br>
              <a:rPr sz="44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he Skinn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class into two teams and designate a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students coins for vocabulary knowledge, you may want to start with one or two coins at the begi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ny= word read correc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ckel= word read and spelled correc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me= word read, spelled and defined correc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rter= word read, spelled, defined, and used in a sentence correc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llar= word read, spelled, defined, used in a sentence, and acted out correc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s is a students turn, the student selects the level of difficul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the word up for 5 to 10 second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udent keeps the money for the team if he or she can answer correc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44:52Z</dcterms:created>
  <dc:creator>Ann Weeks</dc:creator>
  <dc:description/>
  <dc:language>en-US</dc:language>
  <cp:lastModifiedBy>Ann Weeks</cp:lastModifiedBy>
  <dcterms:modified xsi:type="dcterms:W3CDTF">2008-06-29T15:31:30Z</dcterms:modified>
  <cp:revision>7</cp:revision>
  <dc:subject/>
  <dc:title>Phone A Friend A vocabulary game from Mentoring Minds</dc:title>
</cp:coreProperties>
</file>